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D7A-ABF6-4036-B99D-B16CFCF6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03C-2CF9-43DF-A520-67B2EE0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0E4-ED83-491A-B47D-740D8870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B4-C77E-4CC6-8C03-44D5C6A6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A89C-D7A7-463B-A3EB-1D679956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A2C-7E04-4161-B3AF-8E8741B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512D-170D-47DC-A222-7BA46339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FD92-9DA8-41FB-A92B-AA275852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BF1A-F141-4B45-9991-BF6341D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1E9-35F7-4423-A844-0936E29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D53-F0A8-4078-B85C-EEEB6A1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E56-A308-4120-9244-770BAFF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2EA3-EC0F-423E-A67E-969333D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16D-7584-4467-A576-27603D5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8BCC-0C17-40A8-A311-AF81818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5E61-D31B-413F-83ED-49A4D570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B36-91A9-4309-89F0-3E356D9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065-C420-452F-9C78-BD849C22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22C-565F-4CDB-9698-4767F03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1BE-5F99-4326-9CF8-8D781B8A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79E-37B9-4899-B115-BE54D0B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7D9-6FA8-479A-A678-74FDEEA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418-E27A-4BE2-8A9F-11B4DAB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7EF-933F-4DF2-A184-C2DC901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3C4-33EA-459F-BBE2-DCFAC56DDE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45F-8E2C-4F90-948B-2072272DA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m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folosesc la clasă site-urile 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pot să adaug comentarii ulterior alt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ţionează pe aceeaşi idee ca şi mail-ul, dar materialul postat poate fi vizualizat de toţi utilizatorii, dacă e postat în publ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mare lucru, sub aspect informati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mai util decât wik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zitatorii blog-urilor pot posta la rândul l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ca un foru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accesat site-uri pe probleme educa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onale, medicale,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erciale – de promovare a unor produ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 fi interesată sa creez un astfel de site, sa il folosesc la clasa, dar si in cadrul unui proiect pe tematica de voluntariat pe care l-am inscris in CAE 20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Jeni</cp:lastModifiedBy>
  <dcterms:modified xsi:type="dcterms:W3CDTF">2010-12-10T01:27:22Z</dcterms:modified>
  <cp:revision>12</cp:revision>
  <dc:subject/>
  <dc:title>Compuşi hidroxilici</dc:title>
</cp:coreProperties>
</file>